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93400" y="704880"/>
            <a:ext cx="4691160" cy="351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0" y="8913960"/>
            <a:ext cx="3067200" cy="46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400824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38DC3F-D0C6-4162-8C9D-61215BB6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C976E1-889F-4759-909E-0257FC1E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89D647-3DCC-4D7B-B701-CA40A108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0B40C8-6ECA-4980-863B-158F93B5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0D0302-54A4-4E73-A202-D6F2070A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08600" y="8913960"/>
            <a:ext cx="3066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800BEB-E170-4EAF-AFF8-114C9385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312-84BE-410B-A917-C1AA04A3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AB4-037B-4585-9303-22657466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6E0-892F-42EF-A0C9-F72BC50E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7CF-0B2D-40E9-B322-0571A6A8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4CD6-5B16-4DE6-AB20-D7F66A1E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D4FD-3549-4640-A0AC-08A63D9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8137-5C98-4298-952D-5EC5BC7F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EE42-C524-4426-8A04-7B099A5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8CE6-2DE3-43BA-8304-97F9302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91BF-7E5D-43E8-B552-65C9BA3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14C6-5E8B-4DDB-A4F1-C18FF90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ECE-30CA-4567-A1EE-C67AC52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44F-E1A1-4ECE-BA4B-A67A1C9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7829-98EF-48E2-B52F-6BCC31C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B16A-5C10-4F11-B606-2759693F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506-08D0-4737-B305-C062F7F1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69A9-EE91-49DA-B44E-382776C6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93B0-E0AD-412F-AE56-034A6D04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1F54-55D3-470E-A28E-1B9B3193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DB16-0657-481E-A8B7-438A2D5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AB97-8DB0-4AF6-A510-F0487154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7D6C-7504-427E-8AD2-A07C635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C55-3429-4FF8-9136-E52AA44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294B-FC7D-4344-A91A-7DE99B28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595A-4591-4DA5-AA42-4752486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EF66-B7C0-4C7B-B995-42A8900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23B8-6944-48C3-9EDE-562F088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0E31-52A0-4D0D-B77A-96EFA86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A88D-3B39-469C-B831-C17E5E8C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A3AC-93F6-4CDB-964D-B30E1B8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3E3C0-57C2-4993-A278-44D3CD3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094EE-D15A-4A3C-B05F-04AA721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9A2A3-EA88-43E6-99DF-4E90FEF2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998-418F-4056-9C24-C2E0A49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56634-F92C-4D23-A14E-89C2B4DF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158C2-61BC-4E5A-B619-B108CDE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01D21-27F9-49FE-8EFA-9D3F6DDF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803BA-3170-48BA-BCB1-2D109A4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932D8-3400-4322-8F08-1AC1CB8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D731E-3B71-4847-9A2D-BA869DF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0794D-3EDA-4534-B090-76B242AB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CCEF2-6AA4-4797-BF8F-1062C7DE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A178B-B22F-4BA0-BFB0-40E4CC2A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A7E0-3071-4197-9E94-8B33215B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93A-AA96-4A29-84F9-ACE3EB7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D685-FBC8-4A69-809C-E03D7012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8A3D-87D2-4B0A-9A22-465D1D3A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CAE0-7F83-49EA-BE71-F181CF4B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933A7-B25B-47C2-9EF4-FD75168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3F68-9116-4FF5-94DC-194C3EEE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3476-9F2D-4AD3-A21E-E337930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AE22-8137-47BA-939A-97CF5DC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5DF4-7B25-45A8-B709-AEB84F7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298F-CD01-448B-8887-7009A850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64AD-E715-47EF-A8C7-A8AB6FAC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B5B-ED0D-4D1B-A015-8F1693C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9F56-0FFB-4FED-9B15-6BB3F14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92A23-7ADB-42A1-9987-C2B57B70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2E7D5-AC6A-4426-8B3C-2709901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3B5F4-BEA2-4D42-A770-BAF4ED8F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4D7E0-2EBC-47AF-B1B4-F847305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AD16A-870E-4D41-AA27-5A49896B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A3692-B59F-4D70-8B40-60E139B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6FB96-61DD-485D-9238-E2090A8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EA135-6831-43C7-838E-E889642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4B956-1B65-4A07-A51B-D5F0AC1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EE3-3C2D-4AD9-B878-ACB7A44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236DB-3A1D-4A6A-BBE9-680EC4D4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82AA3-CFFC-4983-A085-1AE35BD3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B0862-85D1-4A16-9850-429EC86F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9C78B-1BDB-4900-A743-6E4D10FB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31C4B-C6EE-4011-BB36-226F3812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F08F6-D057-49F2-83C4-FB24838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C3D4A-417B-437D-91D2-B30F340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54EE3-5BFD-4AD8-BC43-0A8EA33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9E533-08DE-473E-AD79-24B5181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A566B-B10E-434D-99B1-8070688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7E8-14C9-405B-896F-F2E0B36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51A32-D62C-4E90-8A07-535F135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7E159-D2BA-476A-9981-8290311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8F605-8428-4352-BF52-1CE6CAFA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2A4A7-B744-4E6D-AE14-E0ECFE27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4B502-AAC3-4D9A-8A97-5CEF97C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E781E-4BD2-4ED8-AC32-3BCF4F18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9459B-A0C8-4579-83B2-69960E9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F5CF2-FD7C-4C3D-814A-30D881B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F5F71-89B3-4E7E-BE13-21F94B12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B4FAD9-767B-4BFF-9DE3-447DAC1E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9CB-0BAC-4A8A-A126-22AEF9B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4CE37-B6AD-4757-A23C-FE1C006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8D258-4D2C-42DF-BCE3-9A6128D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50813-8897-4CBE-897A-200D5EB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A7A69-14D0-4DF1-ADE7-C4AFCD3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53F2D-7EEA-4BE0-8CB9-897D9A81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1F203-E4EE-4D40-A77E-CD5BE729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F50EE-29DE-4DA1-A147-8C62B8DC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CAA-44BA-44AC-8C99-932654B64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4DF-E7E0-48A5-BA43-2E0A410CBB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454-2098-49DA-AA93-79CDC54E08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4EF5-B742-41BD-9E59-F3B39DFE6A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F7E-DF53-421B-809D-C9C20332BF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5C0-5E41-4754-8AAC-615ECE029C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9B46-05B6-42ED-8DC9-7F7ACED25C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559-C844-4840-9924-AA81266A05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-, TRAN-, TRANS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143000"/>
            <a:ext cx="3814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cro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yo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roug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43040" y="1295280"/>
            <a:ext cx="4272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versab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able-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capable of; that which) 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ver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 root meaning to turn; to change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lucent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luc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to light; to shine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atlanti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crip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pl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anscen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" descr="transplant.jpg"/>
          <p:cNvPicPr/>
          <p:nvPr/>
        </p:nvPicPr>
        <p:blipFill>
          <a:blip r:embed="rId1"/>
          <a:stretch/>
        </p:blipFill>
        <p:spPr>
          <a:xfrm>
            <a:off x="2209680" y="2819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translucetn.jpg"/>
          <p:cNvPicPr/>
          <p:nvPr/>
        </p:nvPicPr>
        <p:blipFill>
          <a:blip r:embed="rId2"/>
          <a:stretch/>
        </p:blipFill>
        <p:spPr>
          <a:xfrm>
            <a:off x="6781680" y="0"/>
            <a:ext cx="2048040" cy="1104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transit.jpg"/>
          <p:cNvPicPr/>
          <p:nvPr/>
        </p:nvPicPr>
        <p:blipFill>
          <a:blip r:embed="rId3"/>
          <a:stretch/>
        </p:blipFill>
        <p:spPr>
          <a:xfrm>
            <a:off x="2057400" y="518148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transcript.jpg"/>
          <p:cNvPicPr/>
          <p:nvPr/>
        </p:nvPicPr>
        <p:blipFill>
          <a:blip r:embed="rId4"/>
          <a:stretch/>
        </p:blipFill>
        <p:spPr>
          <a:xfrm>
            <a:off x="7010280" y="4286160"/>
            <a:ext cx="2133720" cy="2571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ransatlantic.jpg"/>
          <p:cNvPicPr/>
          <p:nvPr/>
        </p:nvPicPr>
        <p:blipFill>
          <a:blip r:embed="rId5"/>
          <a:stretch/>
        </p:blipFill>
        <p:spPr>
          <a:xfrm>
            <a:off x="228600" y="3124080"/>
            <a:ext cx="119052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I, TR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51920" y="13716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ree tim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114800" y="14479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dent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one who; doing or being someone)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tooth or teeth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ater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ingu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logy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logy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science or study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let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le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thickness or to fol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cyc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oli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oli=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root meaning citi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iplic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trigonometry.jpg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triden.jpg"/>
          <p:cNvPicPr/>
          <p:nvPr/>
        </p:nvPicPr>
        <p:blipFill>
          <a:blip r:embed="rId2"/>
          <a:stretch/>
        </p:blipFill>
        <p:spPr>
          <a:xfrm>
            <a:off x="8315280" y="5286240"/>
            <a:ext cx="828720" cy="1571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tricycle.jpg"/>
          <p:cNvPicPr/>
          <p:nvPr/>
        </p:nvPicPr>
        <p:blipFill>
          <a:blip r:embed="rId3"/>
          <a:stretch/>
        </p:blipFill>
        <p:spPr>
          <a:xfrm>
            <a:off x="2895480" y="274320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trio.jpg"/>
          <p:cNvPicPr/>
          <p:nvPr/>
        </p:nvPicPr>
        <p:blipFill>
          <a:blip r:embed="rId4"/>
          <a:stretch/>
        </p:blipFill>
        <p:spPr>
          <a:xfrm>
            <a:off x="457200" y="3124080"/>
            <a:ext cx="1200240" cy="22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triplets.jpg"/>
          <p:cNvPicPr/>
          <p:nvPr/>
        </p:nvPicPr>
        <p:blipFill>
          <a:blip r:embed="rId5"/>
          <a:stretch/>
        </p:blipFill>
        <p:spPr>
          <a:xfrm>
            <a:off x="2590920" y="4724280"/>
            <a:ext cx="1514520" cy="151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, U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447920"/>
            <a:ext cx="396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animous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ni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root meaning life; spirit; soul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corn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un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one; single)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r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horn; horned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ped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e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 root meaning foot or feet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cyc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f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niversal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(a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suffix meaning of or pertaining to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6" descr="unicorn.jpg"/>
          <p:cNvPicPr/>
          <p:nvPr/>
        </p:nvPicPr>
        <p:blipFill>
          <a:blip r:embed="rId1"/>
          <a:stretch/>
        </p:blipFill>
        <p:spPr>
          <a:xfrm>
            <a:off x="609480" y="4495680"/>
            <a:ext cx="2667240" cy="1524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unicycle.jpg"/>
          <p:cNvPicPr/>
          <p:nvPr/>
        </p:nvPicPr>
        <p:blipFill>
          <a:blip r:embed="rId2"/>
          <a:stretch/>
        </p:blipFill>
        <p:spPr>
          <a:xfrm>
            <a:off x="3505320" y="495288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universal.jpg"/>
          <p:cNvPicPr/>
          <p:nvPr/>
        </p:nvPicPr>
        <p:blipFill>
          <a:blip r:embed="rId3"/>
          <a:stretch/>
        </p:blipFill>
        <p:spPr>
          <a:xfrm>
            <a:off x="1981080" y="259092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unanimous.jpg"/>
          <p:cNvPicPr/>
          <p:nvPr/>
        </p:nvPicPr>
        <p:blipFill>
          <a:blip r:embed="rId4"/>
          <a:stretch/>
        </p:blipFill>
        <p:spPr>
          <a:xfrm>
            <a:off x="6324480" y="0"/>
            <a:ext cx="257184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place of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ubstitut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roy (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roy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king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 Presid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ice admi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6" descr="viceroy.jpg"/>
          <p:cNvPicPr/>
          <p:nvPr/>
        </p:nvPicPr>
        <p:blipFill>
          <a:blip r:embed="rId1"/>
          <a:stretch/>
        </p:blipFill>
        <p:spPr>
          <a:xfrm>
            <a:off x="6858000" y="4038480"/>
            <a:ext cx="1362240" cy="2286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vice president.jpg"/>
          <p:cNvPicPr/>
          <p:nvPr/>
        </p:nvPicPr>
        <p:blipFill>
          <a:blip r:embed="rId2"/>
          <a:stretch/>
        </p:blipFill>
        <p:spPr>
          <a:xfrm>
            <a:off x="3276720" y="342900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vice admiral.jpg"/>
          <p:cNvPicPr/>
          <p:nvPr/>
        </p:nvPicPr>
        <p:blipFill>
          <a:blip r:embed="rId3"/>
          <a:stretch/>
        </p:blipFill>
        <p:spPr>
          <a:xfrm>
            <a:off x="838080" y="3809880"/>
            <a:ext cx="154332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4-30T15:45:44Z</dcterms:modified>
  <cp:revision>26</cp:revision>
  <dc:subject/>
  <dc:title>Roots List #1</dc:title>
</cp:coreProperties>
</file>